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3CB2-1D5D-42AF-BB4E-20B0574E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76E2-5482-4875-AA90-7A437E77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4BB3-EEFA-4C74-BD0F-38F4916CA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CB4C-BA82-4777-BD48-90463BA44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AA60-7FEF-43BE-AFAD-7E9C5440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69BF-E334-45DB-86D7-965CA32E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1D5F-74D2-4C9B-A4F3-B362CEA7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7657-0835-4575-AE08-CD1C43E4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AA63-44A9-424C-8DBC-01080B1F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8B63-C27E-48B7-A77A-5C7327CE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4BA2-8CF8-4BF5-8FE8-1A62C1BC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B95C-8591-4FCE-B61C-FA8A627C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A52A-4660-41FB-832A-802AAE8F4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3480" y="0"/>
            <a:ext cx="5062680" cy="7086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029200" y="0"/>
            <a:ext cx="4114800" cy="86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في موضعك المقدس  شاهدتك حتى أعاين بهاء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 أطيب من الحياة رحمتك</a:t>
            </a:r>
            <a:r>
              <a:rPr b="1" lang="ar-SA" sz="3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إياك تسبح شفتا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إليك اشتاق، اشتاق جسدي</a:t>
            </a:r>
            <a:r>
              <a:rPr b="1" lang="ar-SA" sz="3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إليك ظمئت نفس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في أرض قاحلة يابسة</a:t>
            </a:r>
            <a:r>
              <a:rPr b="1" lang="ar-SA" sz="3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لا ماء فيها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909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419720" y="0"/>
            <a:ext cx="4724280" cy="86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إني أحمدك مدى حي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وباسمك أرفع يد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 إني أرنم لك مبتهج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أهلل في ظل جناحي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إليك اشتاق، اشتاق جسد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إليك ظمئت نفس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في أرض قاحلة يابس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لا ماء فيها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299160" y="228600"/>
            <a:ext cx="9923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rial"/>
              </a:rPr>
              <a:t>أذكرك على فراشي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rial"/>
              </a:rPr>
              <a:t>لأنك كنت عوناً ل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rial"/>
              </a:rPr>
              <a:t>ترفعني يمينك تسند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rial"/>
              </a:rPr>
              <a:t>تتعلق نفسي في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6:07:29Z</dcterms:created>
  <dc:creator>USER</dc:creator>
  <dc:description/>
  <dc:language>en-US</dc:language>
  <cp:lastModifiedBy>HANI SAFI</cp:lastModifiedBy>
  <dcterms:modified xsi:type="dcterms:W3CDTF">2003-04-11T06:49:53Z</dcterms:modified>
  <cp:revision>3</cp:revision>
  <dc:subject/>
  <dc:title>PowerPoint Presentation</dc:title>
</cp:coreProperties>
</file>